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CBAE-43BC-4A19-8647-0380F9F4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7686-6A30-4D26-AD71-BFFA1FB7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1D76-8088-4627-A3B1-564B5937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E59F-66B3-4DFA-B1A7-5C593D94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9C9D-F0F0-4CDF-8751-8A4935A2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E067-C91F-46C8-AF86-7E7BCCD3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A831-69D2-4ED4-92C5-276E4472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87FE-7037-4641-9699-96A5D43B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7B0D-567F-4230-8148-73465FCE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D57D-DF30-48A3-950D-4812307A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11D-3519-4AA9-AA5B-2C8717D6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1EE3-2E18-46DE-AA7C-0E48828B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CC43-5252-4E94-A107-5145B8E4963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RATEGIA DE COMUNICACIÓN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RAN CONCIERTO NACIONAL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5 Imagen" descr="300x250banner 2.JPG"/>
          <p:cNvPicPr/>
          <p:nvPr/>
        </p:nvPicPr>
        <p:blipFill>
          <a:blip r:embed="rId1"/>
          <a:stretch/>
        </p:blipFill>
        <p:spPr>
          <a:xfrm>
            <a:off x="3143160" y="4143240"/>
            <a:ext cx="28576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Arial"/>
              </a:rPr>
              <a:t>NUEVO MENS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572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Arial"/>
              </a:rPr>
              <a:t>COLOMBIA, COLOMBI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Arial"/>
              </a:rPr>
              <a:t>UNA PREGUNT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Arial"/>
              </a:rPr>
              <a:t>MILLONES DE RESPUEST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-¿Qué nos une? ¿Qué nos hace ser lo que som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Esta campaña publicitaria inicia en Mayo y sigue con el Gran Concierto Nacional. A partir de junio los músicos colombianos llevarán el mensaj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Preguntas recogidas en mensajes de un minuto, de 30 segundos, para insertar en la programación de televisión cultural, regional, nacional, y en las rad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Arial"/>
              </a:rPr>
              <a:t>Colombia, Colombias </a:t>
            </a: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porque t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nemos unos puntos constantes que nos dan la sensación de identidad, pero si reflexionamos un poco nos damos cuenta de que hemos sido y somos muchos, al tiempo que somos uno, u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sta campaña se hace bajo el concepto de Ángel Becassino, con la producción (diseño, comerciales y cuñas de radio de La Estació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 quitan las bolitas del GCN y se define un diseño gráfico bajo este concep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FASE 1: EXPECTATIVA</a:t>
            </a:r>
            <a:br>
              <a:rPr sz="4000"/>
            </a:b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Desde el mes de marz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1150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ESTRATEGIA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1. Selección de los maestros de la música colombiana que representarán a cada región del paí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TÁC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Votación masiva a través de las páginas web del Ministerio de Cultura, ElTiempo, ADN a nivel regional, Quiubo (periódico popular a nivel nacional) y RCN tv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l final de la votación, el diario El Tiempo hará un especial (en el impreso y multimedia) con los maestros seleccionados y RCN tv hará una serie de crónicas en el noticie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nsajes de expectativa a través de los medios de comunicación (teléfonos rosa, turmequé, confidenciales, pastillas informativas en revist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5 Imagen" descr="160x600 banner.JPG"/>
          <p:cNvPicPr/>
          <p:nvPr/>
        </p:nvPicPr>
        <p:blipFill>
          <a:blip r:embed="rId1"/>
          <a:stretch/>
        </p:blipFill>
        <p:spPr>
          <a:xfrm>
            <a:off x="7620120" y="357120"/>
            <a:ext cx="1523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FASE 2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OBJETIVO: LANZAMIENTO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uración: mes de abril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760" y="1142640"/>
            <a:ext cx="7115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3. Rueda de prensa en Casa de Nariño 14 DE ABRIL– invitación a todos los municipios a que participen. Se muestra el video del GCN 200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* Después de Semana Santa – tercera semana de abr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* Con presencia de todos los maestros seleccionados y los músicos ‘figuras’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os diferentes géneros – mismo formato del año pasad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4. Grabación del gingle del GCN- todos los mús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 hará en un estudio y se convocará a toda la pren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Fecha: segunda semana de ma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5. Grabación del comercial de televisión con los mús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 convocará a toda la pren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Fecha: por definir con La Es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6. ESTRATEGIA DIGITAL – REDES 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resentación Micrositio del GCN – (a cargo de Daniel Restrep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edes sociales – estrategia conjunta con las organizaciones de Facebook de la marcha del 4 de febrer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A través de la página del GCN se va a hacer un concurso para escoger el cantante o grupo desconocido que va a ganarse un lugar para tocar en la plaza principal (sea Bogotá o Pore). Esta estrategia se va a hacer en alianza con Caracol radio o RCN radi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5 Imagen" descr="160x600 banner.JPG"/>
          <p:cNvPicPr/>
          <p:nvPr/>
        </p:nvPicPr>
        <p:blipFill>
          <a:blip r:embed="rId1"/>
          <a:stretch/>
        </p:blipFill>
        <p:spPr>
          <a:xfrm>
            <a:off x="7620120" y="357120"/>
            <a:ext cx="1523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FASE 3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OBJETIVO: INFORMATIVA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URACIÓN: MES DE MAYO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760" y="1356840"/>
            <a:ext cx="7115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STRATEGIA INFORMA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-     Se anuncian los municipios que se han sumado a la iniciativa- Empieza conte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 anuncia toda la parrilla en las diferentes ciudades. Se dice quien va a estar en dónde y se empieza una estrategia regional con los cantant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 envía dossier de prensa con toda la información a medios naciona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 saca un cd del GCN con un solo track para entregar a medios y como estrategia de la  quinta fa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 coordinan los especiales con las revistas y diarios nacionales y regionales. (Apoyo de Iván Benavidez para hacer ronda de med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special con Señal Colombia – ¿Cómo suena Colombia? Recorrido por las 5 regiones del paí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special con Caracol Radio- El Espectador  y Caracol TV. Las mejores  canciones colombianas de todos los tiempos (por décad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mpiezan las agendas de medios con los maestros, los músicos que van a participar y los voceros del Ministerio en el tema artístico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Minist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Iván Benavid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María Isabel Tolosa o el maestro Mant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5 Imagen" descr="160x600 banner.JPG"/>
          <p:cNvPicPr/>
          <p:nvPr/>
        </p:nvPicPr>
        <p:blipFill>
          <a:blip r:embed="rId1"/>
          <a:stretch/>
        </p:blipFill>
        <p:spPr>
          <a:xfrm>
            <a:off x="7620120" y="357120"/>
            <a:ext cx="1523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FASE 4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OBJETIVO: POSICIONAMIENTO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uración: JU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8571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 partir del 1 de junio salen al aire las primeras referencias de cuñas de radio por las cadenas RCN y Caracol a nivel nacional (alianza comerci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 van a grabar 5 referencias en radio. Una general y una por cada ciudad principal anunciando los artista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 partir del 15 de junio salen los comerciales de televisión al aire en RCN, Caracol y en los canales regionales que hacen parte de la alianza (Teleantioquia, Telemedellín, Telepacífico, Telecaribe, Teleislas, Telecafé, TRO, Canal Capital, City TV, Canal 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e hace alianza con Cine Colombia para pasar el comercial en todas las salas de cine del paí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ugerencia para los comerciales: buscar un patrocinador para entregar MATERIAL POP como elemento motivador. Se entregan a través de la radio, la t.v. y la prensa.  CAMISETA, BANDERA, ESPEJO,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e pone la publicidad en las calles. Eucoles, Pendones en postes, manteles en restaurantes, free cards, exposición de fot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6 Imagen" descr="propuesta 1.jpg"/>
          <p:cNvPicPr/>
          <p:nvPr/>
        </p:nvPicPr>
        <p:blipFill>
          <a:blip r:embed="rId1"/>
          <a:stretch/>
        </p:blipFill>
        <p:spPr>
          <a:xfrm>
            <a:off x="0" y="5572080"/>
            <a:ext cx="91440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FASE 5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OBJETIVO: IMPACTO 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uración: desde el 1 de ju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primera semana de Julio se hacen lo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nzamient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n las ciudades escogidas.  Participan: Ministra de Cultura- Gobernador - Alcalde de la ciudad - Secretario de Cultura- artistas y un grupo del PNM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genda de medios con voceros en las ciudad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. Vocera principal: Ministra de Cu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la debe acompañar todas las ruedas de prensa. Explicar el concepto de la curaduría e invitar a las familias a participar en esta gran movilizació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3. Vocero de la ciudad: Secretario de cultura o Alcal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s tres últimos fines de semana salen avisos de prensa en los medios impresos (revistas y peripódicos regionales) Sería ideal que se lograra sacar la separata unificada para todos los medios con todo el contenido del GC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ree pres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emisoras, programas de t.v., diarios y revistas de todo el país sobre la logística del evento, lugares de concentración, precauciones durante la movilización. Todo lo referente a logísti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ocero: Andrés Felipe Silva – La Estació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ESTRATEGIA INTER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8571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.  Contacto con oficinas de prensa de Embajadas a través de Cancillería. (una persona de prensa va a estar dedicada a mirar esta estrateg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Ruedas de prensa en paí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.   Alianza con Proexport para traer medios internacionales a algunas ciudades de Bogotá para cubrimi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. Alianza con el boreau de Bogotá para traer medios internacionales para cubrimi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.  Estrategia de redes sociales con los grupos de Faceboo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6 Imagen" descr="propuesta 1.jpg"/>
          <p:cNvPicPr/>
          <p:nvPr/>
        </p:nvPicPr>
        <p:blipFill>
          <a:blip r:embed="rId1"/>
          <a:stretch/>
        </p:blipFill>
        <p:spPr>
          <a:xfrm>
            <a:off x="0" y="5572080"/>
            <a:ext cx="91440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ODELO CON RCN RADIO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  Grabación de 6 referencias de cuñas (una sombrilla y cinco locales) Nos prestan el estudio. Nosotros ponemos el locutor. La idea es musicalizar con los grupos de cada ciu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uta Nacional: La F.M.- Básica RCN- La Mega – Rumb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uta Local Bogotá: La Mega – Rumba – La F.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utal Medellín: Radio Cristal- Radio Uno- Amor Estér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uta Cali: El Sol- Amor Estéreo- Radio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uta Barranquilla: Radio Uno- La M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   A partir del 15 de mayo al 20 de julio: pauta local y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.   Se trabajan las tres etapas de la estrategia en free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. Se acuerda una sección en los noticieros locales para crónicas sobre los procesos del PNMC en cada región. La idea es mostrar las mejores escuelas del Pl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. Hacen cubrimiento en directo desde las cinco ciudades el 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jul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5 Imagen" descr="160x600 banner.JPG"/>
          <p:cNvPicPr/>
          <p:nvPr/>
        </p:nvPicPr>
        <p:blipFill>
          <a:blip r:embed="rId1"/>
          <a:stretch/>
        </p:blipFill>
        <p:spPr>
          <a:xfrm>
            <a:off x="7620120" y="642960"/>
            <a:ext cx="1523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7:41:09Z</dcterms:created>
  <dc:creator>User</dc:creator>
  <dc:description/>
  <dc:language>en-US</dc:language>
  <cp:lastModifiedBy>User</cp:lastModifiedBy>
  <dcterms:modified xsi:type="dcterms:W3CDTF">2011-10-18T01:48:52Z</dcterms:modified>
  <cp:revision>67</cp:revision>
  <dc:subject/>
  <dc:title>ESTRATEGIA DE DIFUSIÓN GRAN CONCIERTO NACIONAL JULIO 20 DE 2008</dc:title>
</cp:coreProperties>
</file>